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889-0F79-4023-94EA-CE2779F2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1E9-40D3-401B-9DEA-D1D3B075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3FA-44EE-4683-958B-79C433E9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E99-B33B-47D0-912B-F7AEBDB0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42F-DB6C-4303-8384-B3373EA9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65B-94F5-430D-AF4D-F8BCDE55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E35-8EA7-4024-AC44-441BEBD1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F5B-22B5-43ED-B118-4F5E94FD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4D6-BCA4-499F-A0B6-F89A3220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7A8-C2AA-4C32-B31D-BE8D906E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684-447C-454D-9370-DFE0E085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04B-D8CA-49DA-912B-D6BD00C5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4472-9C7C-4419-8997-1B089ECC2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5 da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19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change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523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versible physical changes, they are NOT changes from one substance to a new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057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changes take place when a substance changes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e state of mat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53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phas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lting = solid gains energy (temp), causing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to vib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0574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lting point (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) causes molecules to overco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ttractions and move away (bonds brea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743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lting is complete when all molecules have gain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ough energy to move a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3429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reezing  = opposite of melting, but at same temp (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733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lecules get drawn into orderly arrangement because attractions of molecules tak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419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Vaporization = liquid to gas phase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48006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bsorbs energy in order to change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181480"/>
            <a:ext cx="655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othermic process = absorbs energy from another object: example me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thermic = system releases energy to 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s EX: 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447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types of vapor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752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vaporation:  the process by which the subs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a liquid to a gas at temps 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boil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8195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lower levels in a fish ta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200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oiling: vaporization which takes place when boiling substance changes to a gas (vap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9625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boiling pot of water left on the stove to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…no mo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ondensation: phase change in which a subs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a GAS to a VAPOR or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447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otherm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828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mirror in the bathroom appears cloudy after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shower (water condenses on the mi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590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glass of ice tea after a few minutes appea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w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276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ublimation: phase change in which a substance chan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solid to a gas or vapor without changing to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419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ndothermic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876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dry 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Deposition: gas vapor changes directly to a solid witho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hanging to a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752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othermic phas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096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verse of subl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6668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: the temperature of a substance does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during a phas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Boiling water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4:22:24Z</dcterms:created>
  <dc:creator>Farwell Area Schools</dc:creator>
  <dc:description/>
  <dc:language>en-US</dc:language>
  <cp:lastModifiedBy>Farwell Area Schools</cp:lastModifiedBy>
  <dcterms:modified xsi:type="dcterms:W3CDTF">2009-01-26T19:53:22Z</dcterms:modified>
  <cp:revision>8</cp:revision>
  <dc:subject/>
  <dc:title>Note guide 3-5 day 1</dc:title>
</cp:coreProperties>
</file>